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C77-4797-41FC-9656-B15AFCD5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3D8-8D86-47C5-9CEB-C315BA4E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B0A-2280-4C81-A926-8AFB9835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D1B-A703-465B-A346-D86AA5F1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34E8-9125-4B0D-B9B0-558A83B7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5501-27BE-4EF9-A7DD-079DA639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F8D6-F596-450A-9004-97520BBE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5102-4756-4B47-B8FD-B3436869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C18C-5870-4988-B7BA-BE086003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74C0-7B19-462A-9E82-7A945F84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843A-6D0A-4E19-B3D0-C03B6DBD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652-1473-42FE-8035-2DE236BC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9DCC-96DE-4DF0-9C5B-38DF2678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EE3B-1A5E-4951-831F-8E1274FA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C772-A615-4784-BB93-BF72D13A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F1E1-28AE-471B-8DA9-FFE07ADD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1647-4838-420E-B4E3-2DCAE1FB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637-5BD0-4566-8656-316BA14B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502-3698-4D09-94E5-8AAD79D7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1B7-C784-41CB-87F6-94468F7B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475-3423-40A3-BD8F-2E26856E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071-56E5-43C0-ADB0-95948A03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7A0-216D-4A46-A490-3FDA8ED5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752-E32E-4A16-A744-7163FE49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357B-6F3B-4766-B6D7-58D3416772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5763-8606-4E06-9F66-12AF106D86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752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26000"/>
                </a:solidFill>
                <a:latin typeface="Garamond"/>
              </a:rPr>
              <a:t>Do Now 8-25-2010</a:t>
            </a:r>
            <a:br>
              <a:rPr sz="4300"/>
            </a:br>
            <a:r>
              <a:rPr b="1" lang="en-US" sz="4300" spc="-1" strike="noStrike">
                <a:solidFill>
                  <a:srgbClr val="626000"/>
                </a:solidFill>
                <a:latin typeface="Garamond"/>
              </a:rPr>
              <a:t>I can use reading strategies and respond critically to literature by using text evidence.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297180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NSWER THE FOLLOWING QUESTION IN COMPLETE SENTENC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700" spc="-1" strike="noStrike">
                <a:solidFill>
                  <a:srgbClr val="000000"/>
                </a:solidFill>
                <a:latin typeface="Verdana"/>
              </a:rPr>
              <a:t>When you read, what do you do in order to comprehend text? 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ading Strategy Jigsa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your partner, read the passage and do what the slip of paper instructs you to do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you finish the task on your paper, talk with your partner about what you think the author is implying.  In other words,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What message is the author trying to get acros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dependent Read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 the rules of Reading Workshop as you read independent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r today you will practice writing a response on the wiki.  Think about wha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rateg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ou will practice.  Maybe use post-it notes to hold your think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 Response Practi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link titled “Homework Discussion Response Practice,” practice writing a response based on your OWN INDEPENDENT READING BOOK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any strateg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 outline and examples I gave you to guide your respon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1:09:30Z</dcterms:created>
  <dc:creator>Administrator</dc:creator>
  <dc:description/>
  <dc:language>en-US</dc:language>
  <cp:lastModifiedBy>Administrator</cp:lastModifiedBy>
  <dcterms:modified xsi:type="dcterms:W3CDTF">2010-08-25T02:58:16Z</dcterms:modified>
  <cp:revision>2</cp:revision>
  <dc:subject/>
  <dc:title>Do Now 8-25-2010 I can use reading strategies and respond critically to literature by using text evidence.</dc:title>
</cp:coreProperties>
</file>